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78DB1-7E15-46C5-A77B-444BBAEC7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6CB4-18F9-42B9-8801-D2C5DECB61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9C75-31A6-4AE3-9271-DB05466B52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3E6C-4359-4378-B5B6-7854CCF3A9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36FF-28FE-49F5-86E5-098D8EF275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1B97-47B7-4F40-AAFE-0BC52A8D27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DF84-1E28-4DB5-8982-7A37C521B0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4DB3-6422-4E03-B75D-6A1F3F915A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B56B-8DDE-44C1-9E22-67D976CBD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ABE5-9D2C-415A-8E41-7D89805F02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8E37-85D8-4F31-B9AC-BB311638B3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B1AF-66CB-49D1-BE92-80CAA963A1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0D9B-59AB-449E-AA8E-48E5255E6E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9D17-11D5-4F57-81F8-4270A38BF8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A1AC-A697-4021-B4E2-8A0CA763C1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2E3B-E60E-4B18-AA5D-3B5A7A8BD1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46CA6-0B42-4DB6-A70B-CAAC00328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3BD5A-1CD8-45F1-A71B-764FF456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F7AC7-F869-4042-A0E5-65631042F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8C74C-EF72-4591-B623-84CC8081F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A916-E7F7-4BE9-B9A1-921D37666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63E4-A06D-4499-9D93-025DB8D0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40A2-1C4F-42F7-9ED7-4C1CFE8E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BC7D-E242-4625-8615-EE688482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99BD8-AE51-4F0E-956C-D261CF5CF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807C0-0A76-42B7-80AA-E474118D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9A59-EE43-4891-9C3B-C208ABA2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0823C-5241-423B-9B0A-28CC726C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962E-D622-4F3C-B85F-EEF96E29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B43D-C73D-4FA8-A69C-68B82F1F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6B7B-9BB6-4116-A0A5-54C0B274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E6BE-DF3A-43C1-BC8F-D117BCB29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0703-F391-4D1F-A2E3-57CF2A491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CBFE4-EE40-4BC1-BC2D-09DAD62D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807D7-848F-4A38-A510-6A8F11CF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C5EF1-7C72-4504-B3D8-07C6EA25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4FFC9-1C89-4F08-AECC-79ECD962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13037-1DC4-4513-B383-6F3AB7E7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BDA0C-2F9F-4F30-A73B-BF795081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D7F46-0D9D-4E34-9CB8-BB1521AD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28F0-78C8-47BC-A016-F5DFFBE2663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f0f0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c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13BF-A317-4CC4-B3F3-337FFD09DB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320" y="-100080"/>
            <a:ext cx="35049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480024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merica is finally its own country, what are two problems you expect them to fac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5257800" y="108000"/>
            <a:ext cx="3733920" cy="4189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228600" y="97776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Northwest Territor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6" name="Picture 7" descr=""/>
          <p:cNvPicPr/>
          <p:nvPr/>
        </p:nvPicPr>
        <p:blipFill>
          <a:blip r:embed="rId1"/>
          <a:srcRect l="0" t="0" r="0" b="5556"/>
          <a:stretch/>
        </p:blipFill>
        <p:spPr>
          <a:xfrm>
            <a:off x="571680" y="2133720"/>
            <a:ext cx="3429000" cy="43434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4197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Northwest Territory was east of the Mississippi River and north of the Ohio River. The states of Ohio, Indiana, Illinois, Michigan, and Wisconsin would be formed from this area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560" y="277920"/>
            <a:ext cx="47242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hay’s Rebelli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87440" y="5105520"/>
            <a:ext cx="79963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re farmers get really mad and fight against their governmen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657360" y="1681200"/>
            <a:ext cx="4019400" cy="3160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"/>
          <p:cNvPicPr/>
          <p:nvPr/>
        </p:nvPicPr>
        <p:blipFill>
          <a:blip r:embed="rId2"/>
          <a:stretch/>
        </p:blipFill>
        <p:spPr>
          <a:xfrm>
            <a:off x="5211720" y="316080"/>
            <a:ext cx="3398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Reasons for Shay’s Rebelli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armers are required to pay debts in gold, they have no money because they were not paid during the war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ealthy lawmakers invested their money in the war too. And seek to get money from the farmers debts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5562720" y="1905120"/>
            <a:ext cx="3124080" cy="41148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Shays’s Rebelli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9760" y="15238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or farmers are not represented in the Mass legislature and cannot pass debt relief law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rebellion will free debtors from prisons and close courts that are hearing cases against farm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4038480" cy="41148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Shays’s Rebelli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ass militia is called out to stop 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or farmers in 1791 elect officials who support their stance and will close courthouses and demand financial help from the Congr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ays’s Rebellion will prompt national leaders to create a stonger central gover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Views about Shays’s Rebelli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of America’s Founding Fathers have two opinions about Shays’ Rebell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are they different from each oth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ich one do you agree with mor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ich one does our society agree with toda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amuel Adams Said What?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Rebellion against a king may be pardoned, or lightly punished, but the man who dares to rebel against the laws of a republic ought to suffer death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rcRect l="3996" t="0" r="3996" b="1853"/>
          <a:stretch/>
        </p:blipFill>
        <p:spPr>
          <a:xfrm>
            <a:off x="5486400" y="1905120"/>
            <a:ext cx="3048120" cy="40384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omas Jefferson Said What?!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"A little rebellion now and then is a good thing. It is a medicine necessary for the sound health of government. God forbid that we should ever be twenty years without such a rebellion."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37200" y="1600200"/>
            <a:ext cx="3549600" cy="45306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Views about Shays’s Rebelli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ams will also write a law called th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Riot Ac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which prohibits 12 people or more from meeting and gives the government the power to shoot rioter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ssessment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seeing some of the problems with the Articles of Confederation and how they caused Shays’ Rebellion, answer thi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How would you revise/change the Articles of Confederation to make a better government?  How would this change improve the government? (2 sentenc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Objective: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s will be able to analyze Shays’ Rebellion in order to revise the Articles of Confeder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The Articles of Confederation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The Articles of Confederati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599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rticles were written in 1777 by John Dickinson, a Penn. statesma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Articles were accepted by Congress in 1781 and is considered the first national constit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5257800" y="1981080"/>
            <a:ext cx="3581280" cy="41148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The Articles of Confederati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fear of having too much power in one person’s hands reflects the experiences the colonies had under a monarch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the Articles the state governments limit the power of the national Congr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5378400" y="1600200"/>
            <a:ext cx="3308400" cy="45306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Weaknesses of the Articles of Confederati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gress had no power to raise tax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gress had no power regulate foreign or state tra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ws had to be approved by 9 out of 13 sta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gress did not have the power to enforce la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Strengths of the Articles of Confederati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Treaty of Paris 1783 was sign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orthwest Ordinance was pass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d the power to declare war and peace, print money, make treaties and settle state dispu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cc"/>
                </a:solidFill>
                <a:latin typeface="Tahoma"/>
              </a:rPr>
              <a:t>Strengths of the Articles of Confederation: Settling Western Lands</a:t>
            </a: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he Land Ordinance of 1785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d that land in the west was to be surveyed using a grid system to establish 6 mile bloc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The Northwest Ordinanc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ssisted in the orderly expansion of the United States, it outlined a plan for applying for statehood to western territo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,000 free males who own 50 acres can start gov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pulation of 60,000 could become a st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Settling Western land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rthwest Ordinance provides an orderly settlement process in the W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promis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slave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u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eedom of relig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ial by ju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rcRect l="0" t="22226" r="0" b="0"/>
          <a:stretch/>
        </p:blipFill>
        <p:spPr>
          <a:xfrm>
            <a:off x="5486400" y="2133720"/>
            <a:ext cx="3200400" cy="38862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6T04:43:01Z</dcterms:created>
  <dc:creator>core curr</dc:creator>
  <dc:description/>
  <dc:language>en-US</dc:language>
  <cp:lastModifiedBy>Howard County Administrator</cp:lastModifiedBy>
  <dcterms:modified xsi:type="dcterms:W3CDTF">2015-12-02T16:36:17Z</dcterms:modified>
  <cp:revision>25</cp:revision>
  <dc:subject/>
  <dc:title>The Articles of Confederation</dc:title>
</cp:coreProperties>
</file>